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dt" idx="4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 type="ftr" idx="4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 type="sldNum" idx="5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672A-FAAC-4C47-B902-63A0084F2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0FA9-9968-4F3D-8C24-2CF0C08626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925B-1364-4C8E-93D6-6A9FA551FA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2E71-D517-4572-BF23-204FBE14F6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567-AEED-444E-ADD6-C0CB0BCE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335-C6D0-4EB7-913A-F4DAF268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429D16-E075-43E3-A688-451DAACA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3EBA85-FE01-415D-85B8-EAF268F7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6C570F-0386-4EBE-B85A-FE9B36C3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E4D142-EADA-4DC5-BD99-BF375F69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6F6540-A077-4883-B2A9-4AEB16A2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7D5243-7743-4F3B-B42F-E907E0DA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AC45CB-17EF-40C8-8380-C7672664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F0E62E-FF02-401B-A867-B064348F9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3B87BA-C195-48FB-9FC3-1A929384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A18AD9-D12A-4359-832C-7781CB26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F28-3645-48B2-8016-2EA7A3DF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E9A730-E514-46EE-8B78-63FC8FB6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15246-E738-40D0-8A58-F8CE1C0A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F86550-A098-46AA-A7FB-BFBEADD5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5EC97-5D73-4E1A-87EC-17CA6C12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FE88C-FAE1-42C6-8B24-197FCD0A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62DB35-6A37-48DB-874C-C594CE6D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A27CBF-0C31-4711-855E-3976B863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8A54BC-FF76-4364-8699-8D06276A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811B2-CE70-4050-B6DF-5063A1E5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C52723-CC19-4367-806C-90F06E90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16A-6E27-4A60-8435-49DCA293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84B7BF-0CB1-4999-9D8A-696B5142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1B2784-038F-4CE3-A270-5BDF6778D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18F954-341E-4B77-880F-CEB3E97F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48E5B-3415-4467-9BD6-A51B6B66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230DDA-612C-4AAD-AE01-E8B57EDA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0DFE7A-87B9-411A-AA8F-DB1F153E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36A0D-883F-4DC9-8962-E5F2844ED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5AAB6-74E4-4E09-ACE7-911F46A4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10ACCD-A6A7-4D7D-AF2E-1A12BB12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C114E8-C2C4-4A01-B62B-7A3BDD47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C3FD-8876-48AE-B7D0-54701FA0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97FDEA-A337-4613-9FF4-F6AAD204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02145-663F-491C-80BF-3EFCB5CC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0A3A3-08A9-4622-B5F7-6E1DFC67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DB25E8-205A-452D-999E-204ECD8C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68D3EB-B9C1-4D24-800D-14E589C5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30714F-1E4B-4CBE-BA9C-FF18D3DC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60E075-10E0-4DDC-A1F1-451C9F40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AF3BF73-8DB3-4046-96F5-27F9E85F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5F44F4-0364-4AF3-BE41-741A9308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7E8604-F325-4928-B457-C051306F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969B-BD9B-4E93-B741-F3CEC8B1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4B7624-98C4-4486-9D6C-18435691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8EF58F-9FCB-4C9E-A9E9-629F1825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8239A1-65D6-4C22-ACE9-04B8AF47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01AEB7-7FB0-4DC5-A60B-B82298FE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E86C39-4BCA-4E0B-9EEB-793FA5B1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C0643-9F4D-49E3-9483-6FBE8F46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E6ED1-F6D8-42E7-8F07-E5A83510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DEC156-B1CB-4E7F-940C-0AA77E21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1E268-3186-400C-B96F-D015661A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619E5-C845-48B4-B27C-22A08C53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654D-A9B6-460C-8C15-FF4819D1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86D8B9-56F9-4B3C-9558-78C1FB5B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182736-2FEF-4656-8B27-98EB0035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DCD58-1A93-4070-853D-072DB9C5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CB5896-8B31-4329-8B06-746C2262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8E18E2-DE35-4FE9-B234-D50C5FA8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4DE3E3-DFFF-4FF0-B0C6-0DB6828C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E2713-BA9D-4EB4-9A9D-E8374E2A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E9AF35-5BCA-4369-B652-0E095276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A710D0-3A65-47AA-BF8C-5324E525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94F91C-C08F-4122-90DC-F26C9897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8BA3-82B2-403E-9B39-56B94D89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70B9F0-4455-46F6-A179-D473F6BB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11CDBE-4988-460B-830F-A628119B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2E8A8F-C79F-4333-B3EF-7F99F1BE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645D74-81C4-4528-BB44-53266456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3C11288-E8A2-4028-8C97-AE16A040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0C649B-F969-492A-9C2F-A5F329FA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657BF2-0DB4-40FD-AB37-62CBDFAB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4A76D6-C2E5-4F59-B7B9-CA39AA1A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88720D-84C4-4979-92C5-7C1E50FC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A178-B785-41AD-BE80-E52AFD4F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DA51-B9A0-4F33-90A1-B808810C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1989-AA48-4B5E-9912-E97AA711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8E1C-8E1F-4FF0-A4D5-7801501D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1675-7F36-41C0-8A56-5C6CE738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7280-1E87-4DCD-A308-40DDB4F9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9517-0AAC-4959-AEEB-DE2B8802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ED56-D7FF-4988-85F0-61950B4B2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DDBE-C2E5-49A6-A74F-9C2F0C01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0FDB-2BBB-469B-8AC3-27A5B8A1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1AB2-E818-4680-B9B8-CD89A1E0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94ECF6-B2EF-4873-B58E-EBB7FCBE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FB02-BB93-4733-92E9-601CE747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F0CC81-6143-483B-BAAC-E472E6C1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6FED96-4381-4883-B6FD-CEBC0C62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2666E6-2311-4673-9FD7-E211C1A3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094352-4AE3-4D70-9537-BC34AA58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67D9BA-E8C8-4FEA-AA6B-DCFC26B8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6D8C2C-5FE5-46B5-8791-95A07766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4ACCC1-14B5-4981-BB1B-3B5759EF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CDD2FB-5DDA-4117-9993-74291732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0C5A02-5B2D-4DD9-8934-8888D2FF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3954D4-EA61-452E-AA10-9A392BDB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2A83-6612-4A3A-9697-47246A8D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4BA51A-5157-4247-B391-A14BA0DB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70F65A-7D75-497F-8F8C-5BD655EF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2355EC-1D80-4D38-97C6-E2D82D40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EDD291-10B0-4CAF-AAD3-BAA3A42E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B1F95B-77DF-4A0A-87C8-28321130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AAB499-E263-4A7B-A3A0-EFAA73C9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6B3714-5850-4BDA-B87E-A471C00E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D33EDA-9901-4AA1-9B31-E56CA8E5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8D00DA-CE9E-46B6-ADA3-ED68978E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325B71-995C-4941-B817-0C65C8B6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3CA6-28FA-4EAD-B705-80645A2A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1C6941-571F-436F-9F6F-EBDFA4A5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D5022F-2FCA-4E5A-B748-BE6DF446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666A32-3946-454B-B278-CB2F12BC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9F3F2F-897E-44F9-B8D9-5FE67B36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A0FC99-AF31-4E17-BCCA-359EA323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E2002E-37F8-4C3F-AB24-E7396C69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3E3BF9-AC35-47AD-B0CC-F4028D14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EDD3E6-6BF8-41BA-B8C2-53C58307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ADA7A7-6760-43DB-9106-365EE4E1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6EF88F-E9E8-4E6B-9925-543FBE36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331-B2CB-4105-ABCE-74F4BD58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518096-84E6-4062-BE59-A75111E3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2DC8C7-7BE8-41FB-9397-5848CBDB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33FBB1-1F9C-47ED-A148-40211B11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2C0AAC-3B1E-436A-A795-92F3FC95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3490BE-8E68-42DB-89F1-08C9766C9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0A9E72-6210-489C-90E2-3E7FC982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F854DE-1343-4BE3-BB12-8452070A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42BB93-502E-49D7-8BDB-39F1D745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C8BA34-7D4D-42DB-8155-40B3B676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B6338A-90E9-43E4-A656-F68FA3D7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895-79B0-400E-B0A5-96218410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FCB125-85DA-43AC-8CD9-FC8A39D2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DFD0D3-DF8A-4D1D-BEB3-BEDC25AE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F40D9E-96E7-473C-A1AA-010F31FF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F9F33B-BC5E-4107-9DEB-14DA9B6F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75E610-C6FE-4380-81BB-4F46D438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721F47-7CCE-4958-9199-7E1AFEC5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BEAE3C-4E73-42EC-B674-9C74790E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31A0F7-9295-4EBE-8450-79DEBFB1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44B5DC-609D-4C9D-AF51-041EE00B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287917-CF0B-49E2-A8BC-6F1E4F63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8EA3-876C-43F0-8D18-D35A345FF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E329-12CD-4B73-A21E-7760C44AC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ADD2-796D-499D-A725-ACFFF1822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8740-29AE-4E14-A3F5-170CC1A30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DB44-11BD-41D8-A40A-A54F1CD11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FA94-B42B-41C0-B6F5-155067D1F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38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39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ftr" idx="40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41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ftr" idx="42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285C-4EB1-42C9-9498-E6AACAA63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43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ftr" idx="44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ftr" idx="45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ftr" idx="46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ftr" idx="4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Sherwood0495391840 copy"/>
          <p:cNvPicPr/>
          <p:nvPr/>
        </p:nvPicPr>
        <p:blipFill>
          <a:blip r:embed="rId2"/>
          <a:stretch/>
        </p:blipFill>
        <p:spPr>
          <a:xfrm>
            <a:off x="457200" y="6318360"/>
            <a:ext cx="361800" cy="46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3B89-5066-416E-B222-6F0B2BDB0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6780-539B-4A8A-A0B1-9CDF61D6C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1701-C121-4787-870B-61E3F0AB4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68C9-3B69-4F4D-B606-9D52DEEEEF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F26E-DDEA-4A9F-9713-21E1DE70C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0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24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8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Rectangle 2"/>
          <p:cNvGrpSpPr/>
          <p:nvPr/>
        </p:nvGrpSpPr>
        <p:grpSpPr>
          <a:xfrm>
            <a:off x="255600" y="285840"/>
            <a:ext cx="8553600" cy="1218960"/>
            <a:chOff x="255600" y="285840"/>
            <a:chExt cx="8553600" cy="1218960"/>
          </a:xfrm>
        </p:grpSpPr>
        <p:pic>
          <p:nvPicPr>
            <p:cNvPr id="1054" name="Rectangle 2" descr=""/>
            <p:cNvPicPr/>
            <p:nvPr/>
          </p:nvPicPr>
          <p:blipFill>
            <a:blip r:embed="rId1"/>
            <a:stretch/>
          </p:blipFill>
          <p:spPr>
            <a:xfrm>
              <a:off x="255600" y="285840"/>
              <a:ext cx="855360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5" name=""/>
            <p:cNvSpPr/>
            <p:nvPr/>
          </p:nvSpPr>
          <p:spPr>
            <a:xfrm>
              <a:off x="380880" y="533520"/>
              <a:ext cx="8305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ffff00"/>
                  </a:solidFill>
                  <a:latin typeface="Arial"/>
                </a:rPr>
                <a:t>Anterior Pituitary Gland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6" name="Picture 2" descr="https://s-media-cache-ak0.pinimg.com/736x/ed/60/0a/ed600a12c91578e82dc02f5eb2a63171.jpg"/>
          <p:cNvPicPr/>
          <p:nvPr/>
        </p:nvPicPr>
        <p:blipFill>
          <a:blip r:embed="rId2"/>
          <a:srcRect l="45833" t="6589" r="2501" b="5559"/>
          <a:stretch/>
        </p:blipFill>
        <p:spPr>
          <a:xfrm>
            <a:off x="685800" y="1676520"/>
            <a:ext cx="777240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2" descr=""/>
          <p:cNvPicPr/>
          <p:nvPr/>
        </p:nvPicPr>
        <p:blipFill>
          <a:blip r:embed="rId1"/>
          <a:srcRect l="2676" t="0" r="1787" b="0"/>
          <a:stretch/>
        </p:blipFill>
        <p:spPr>
          <a:xfrm>
            <a:off x="1219320" y="304920"/>
            <a:ext cx="67053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Picture 3" descr="18f06"/>
          <p:cNvPicPr/>
          <p:nvPr/>
        </p:nvPicPr>
        <p:blipFill>
          <a:blip r:embed="rId1"/>
          <a:srcRect l="0" t="14689" r="0" b="0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0" name="Rectangle 2"/>
          <p:cNvGrpSpPr/>
          <p:nvPr/>
        </p:nvGrpSpPr>
        <p:grpSpPr>
          <a:xfrm>
            <a:off x="92160" y="42840"/>
            <a:ext cx="3425760" cy="1157400"/>
            <a:chOff x="92160" y="42840"/>
            <a:chExt cx="3425760" cy="1157400"/>
          </a:xfrm>
        </p:grpSpPr>
        <p:pic>
          <p:nvPicPr>
            <p:cNvPr id="1081" name="Rectangle 2" descr=""/>
            <p:cNvPicPr/>
            <p:nvPr/>
          </p:nvPicPr>
          <p:blipFill>
            <a:blip r:embed="rId2"/>
            <a:stretch/>
          </p:blipFill>
          <p:spPr>
            <a:xfrm>
              <a:off x="92160" y="42840"/>
              <a:ext cx="3425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"/>
            <p:cNvSpPr/>
            <p:nvPr/>
          </p:nvSpPr>
          <p:spPr>
            <a:xfrm>
              <a:off x="228600" y="228600"/>
              <a:ext cx="30481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00"/>
                  </a:solidFill>
                  <a:latin typeface="Arial"/>
                  <a:ea typeface="Arial"/>
                </a:rPr>
                <a:t>Anterior Pituitary Hormon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nterior pituitary hormon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Picture 1" descr="antpituitary"/>
          <p:cNvPicPr/>
          <p:nvPr/>
        </p:nvPicPr>
        <p:blipFill>
          <a:blip r:embed="rId1"/>
          <a:srcRect l="1927" t="4640" r="-163" b="18806"/>
          <a:stretch/>
        </p:blipFill>
        <p:spPr>
          <a:xfrm>
            <a:off x="228600" y="838080"/>
            <a:ext cx="8686800" cy="57913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yroid Stimulating Hormone (TSH) = Thyrotro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228600" y="76176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c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mulates development of thyroid structure and fun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mulates formation and secretion of thyrox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ntro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- Feedback mechanis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yroxin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yrotropin releasing factor (=TRF)    &amp;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S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yroxin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RF &amp;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S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2- Neural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TRF is stimulated mainly by neural reflex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DRENOCORTICOTROPIC HORMONE (ACTH) = Corticotrop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228600" y="76212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s adrenal cortex (excep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ona glomerulo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es adrenocortical hormones (excep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doster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lanocyte stimula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 mobilizing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Feedback mech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iso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rticotropin releasing factor (CRF) &amp;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iso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F &amp;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- Neur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on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citement, pain and fea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R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ato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hemorrhage stimulate anterior pituitary di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GONADOTROP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0" name=""/>
          <p:cNvGraphicFramePr/>
          <p:nvPr/>
        </p:nvGraphicFramePr>
        <p:xfrm>
          <a:off x="380880" y="1219320"/>
          <a:ext cx="8382240" cy="5014800"/>
        </p:xfrm>
        <a:graphic>
          <a:graphicData uri="http://schemas.openxmlformats.org/drawingml/2006/table">
            <a:tbl>
              <a:tblPr/>
              <a:tblGrid>
                <a:gridCol w="1295640"/>
                <a:gridCol w="3276360"/>
                <a:gridCol w="3810240"/>
              </a:tblGrid>
              <a:tr h="94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SimSun"/>
                        </a:rPr>
                        <a:t>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SimSun"/>
                        </a:rPr>
                        <a:t>F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SimSun"/>
                        </a:rPr>
                        <a:t>ollicle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SimSun"/>
                        </a:rPr>
                        <a:t>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SimSun"/>
                        </a:rPr>
                        <a:t>timulating Hormone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SimSun"/>
                        </a:rPr>
                        <a:t>Luteinizing Hormone (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SimSun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SimSun"/>
                        </a:rPr>
                        <a:t>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7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e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mulates growth &amp; maturation of Graffian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F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llicl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secre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f estro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imulates ovulation and formation of corpus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L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teum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secretion of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rogesteron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from i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imulates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ermatogenesi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imulates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rtoli cells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strog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imulates interstitial cells of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ydig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testosteron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LACT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04920" y="106632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lactin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te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mone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rior pituit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and that was originally named for its ability to promo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c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esponse to the suckling stimulus of hungry young mammal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its genetic, structural, binding and functional properties, prolactin belongs to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lactin/growth hormone/placental lactogen fam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ure human prolactin is composed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ino ac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NTROL OF SECRE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457200" y="5331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- Hypothalamic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lactin Inhibiting Factor (predominant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pa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&amp; GA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lactin Releasing Factor (PRF)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yrotrophin releasing Fa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TRF) 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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Thyroxi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lactin vi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F secretion (by -ve feedback mech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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Estroge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lactin secretion v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F receptors on lactotrophs.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unctions of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ROLAC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22860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involved i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LK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atio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process of lactogenesis, prolactin stimulates uptake of some amino acids, the synthesis of the milk proteins casein and α-lactalbumin, uptake of glucose, and synthesis of the milk sugar lactose as well as milk f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actin stimulat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L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already formed mammary gland and prepared by estrogen and progesterone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pregnancy, prolactin stimulates Brea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wth with no lactation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ly colostrum is produced. As estrogen and progesterone (secreted from placenta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hibit prolactin action at receptor sites in alveolar cells. ↓ Estrogen &amp; progesterone after delive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tiation of milk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Other functions of prolact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294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involved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onada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s an important role in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tern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5"/>
          <p:cNvSpPr/>
          <p:nvPr/>
        </p:nvSpPr>
        <p:spPr>
          <a:xfrm>
            <a:off x="685800" y="2895480"/>
            <a:ext cx="7543800" cy="365760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.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lactin secretion in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nuous exercise (exercise amenorrhea in 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ckling,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ss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Rectangle 2"/>
          <p:cNvGrpSpPr/>
          <p:nvPr/>
        </p:nvGrpSpPr>
        <p:grpSpPr>
          <a:xfrm>
            <a:off x="1474920" y="-23760"/>
            <a:ext cx="6346800" cy="998640"/>
            <a:chOff x="1474920" y="-23760"/>
            <a:chExt cx="6346800" cy="998640"/>
          </a:xfrm>
        </p:grpSpPr>
        <p:pic>
          <p:nvPicPr>
            <p:cNvPr id="1058" name="Rectangle 2" descr=""/>
            <p:cNvPicPr/>
            <p:nvPr/>
          </p:nvPicPr>
          <p:blipFill>
            <a:blip r:embed="rId1"/>
            <a:stretch/>
          </p:blipFill>
          <p:spPr>
            <a:xfrm>
              <a:off x="1474920" y="-23760"/>
              <a:ext cx="63468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"/>
            <p:cNvSpPr/>
            <p:nvPr/>
          </p:nvSpPr>
          <p:spPr>
            <a:xfrm>
              <a:off x="1600200" y="152280"/>
              <a:ext cx="6095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Lecture Objectiv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pl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ypothalam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the major integrative site for the neuroendocrin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scribe the general characteristics o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ypothalamic releasing and inhibiting hormon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d describe their route of transport from the hypothalamus to the anterior pitu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dentify appropriate hypothalamic hormones that control the secretion of each o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anterior pituitary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agram short-loop and long-loop negativ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eedback contro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f anterior pituitary hormone secre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HYPERPROLACTINA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228600" y="6854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au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1-Hypothalamic Dopamine deficiency due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es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ypothalamic Dopamine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ugs e.g. Alpha methyldopa (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entral dopamine stor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2- Defective Dopamine transport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e to pituitary tum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3- Lactotroph insensitivity to Dopam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pamine receptor blockers as Phenothiaz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ffec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1- Galactorrhoea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80% of Females &amp; 30% of Male (due to inhibitory effect of androgen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2- Hypogonadism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menstrual abnormalities (in Female),  impotence (In Male) &amp; infertility in bo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4"/>
          <p:cNvSpPr/>
          <p:nvPr/>
        </p:nvSpPr>
        <p:spPr>
          <a:xfrm>
            <a:off x="609480" y="5715000"/>
            <a:ext cx="7925040" cy="99072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ypogonadism in hyperprolactinaemia may be du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- Suppression of pituit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nadotrophi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- Blockade of receptor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nadotroph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t gonadal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/>
          </p:nvPr>
        </p:nvSpPr>
        <p:spPr>
          <a:xfrm>
            <a:off x="457200" y="1877400"/>
            <a:ext cx="8305920" cy="36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 algn="just">
              <a:lnSpc>
                <a:spcPct val="150000"/>
              </a:lnSpc>
              <a:spcBef>
                <a:spcPts val="1400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33"/>
                </a:solidFill>
                <a:latin typeface="Georgia"/>
              </a:rPr>
              <a:t>Hypothalamus </a:t>
            </a:r>
            <a:endParaRPr b="0" lang="en-US" sz="2800" spc="-1" strike="noStrike">
              <a:solidFill>
                <a:srgbClr val="003333"/>
              </a:solidFill>
              <a:latin typeface="Georgia"/>
            </a:endParaRPr>
          </a:p>
          <a:p>
            <a:pPr marL="514440" indent="-514440" algn="just">
              <a:lnSpc>
                <a:spcPct val="150000"/>
              </a:lnSpc>
              <a:spcBef>
                <a:spcPts val="1400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33"/>
                </a:solidFill>
                <a:latin typeface="Georgia"/>
              </a:rPr>
              <a:t>Pituitary stimulation from hypothalamic trophic hormones</a:t>
            </a:r>
            <a:endParaRPr b="0" lang="en-US" sz="2800" spc="-1" strike="noStrike">
              <a:solidFill>
                <a:srgbClr val="003333"/>
              </a:solidFill>
              <a:latin typeface="Georgia"/>
            </a:endParaRPr>
          </a:p>
          <a:p>
            <a:pPr marL="514440" indent="-514440" algn="just">
              <a:lnSpc>
                <a:spcPct val="150000"/>
              </a:lnSpc>
              <a:spcBef>
                <a:spcPts val="1400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33"/>
                </a:solidFill>
                <a:latin typeface="Georgia"/>
              </a:rPr>
              <a:t>Endocrine gland stimulation from pituitary trophic hormones</a:t>
            </a:r>
            <a:endParaRPr b="0" lang="en-US" sz="2800" spc="-1" strike="noStrike">
              <a:solidFill>
                <a:srgbClr val="003333"/>
              </a:solidFill>
              <a:latin typeface="Georgia"/>
            </a:endParaRPr>
          </a:p>
        </p:txBody>
      </p:sp>
      <p:grpSp>
        <p:nvGrpSpPr>
          <p:cNvPr id="1104" name="Rectangle 3"/>
          <p:cNvGrpSpPr/>
          <p:nvPr/>
        </p:nvGrpSpPr>
        <p:grpSpPr>
          <a:xfrm>
            <a:off x="66600" y="-30240"/>
            <a:ext cx="9016920" cy="1687680"/>
            <a:chOff x="66600" y="-30240"/>
            <a:chExt cx="9016920" cy="1687680"/>
          </a:xfrm>
        </p:grpSpPr>
        <p:pic>
          <p:nvPicPr>
            <p:cNvPr id="1105" name="Rectangle 3" descr=""/>
            <p:cNvPicPr/>
            <p:nvPr/>
          </p:nvPicPr>
          <p:blipFill>
            <a:blip r:embed="rId1"/>
            <a:stretch/>
          </p:blipFill>
          <p:spPr>
            <a:xfrm>
              <a:off x="66600" y="-30240"/>
              <a:ext cx="9016920" cy="16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196920" y="163440"/>
              <a:ext cx="8762760" cy="13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Endocrine Control</a:t>
              </a:r>
              <a:br>
                <a:rPr sz="4000"/>
              </a:b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Three Levels of Integra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Rectangle 2"/>
          <p:cNvGrpSpPr/>
          <p:nvPr/>
        </p:nvGrpSpPr>
        <p:grpSpPr>
          <a:xfrm>
            <a:off x="66600" y="-219240"/>
            <a:ext cx="9016920" cy="1571760"/>
            <a:chOff x="66600" y="-219240"/>
            <a:chExt cx="9016920" cy="1571760"/>
          </a:xfrm>
        </p:grpSpPr>
        <p:pic>
          <p:nvPicPr>
            <p:cNvPr id="1108" name="Rectangle 2" descr=""/>
            <p:cNvPicPr/>
            <p:nvPr/>
          </p:nvPicPr>
          <p:blipFill>
            <a:blip r:embed="rId1"/>
            <a:stretch/>
          </p:blipFill>
          <p:spPr>
            <a:xfrm>
              <a:off x="66600" y="-219240"/>
              <a:ext cx="901692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"/>
            <p:cNvSpPr/>
            <p:nvPr/>
          </p:nvSpPr>
          <p:spPr>
            <a:xfrm>
              <a:off x="196920" y="87480"/>
              <a:ext cx="876276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Hormones of hypothalamic-anterior pituitary pathwa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0" name="Picture 4" descr=""/>
          <p:cNvPicPr/>
          <p:nvPr/>
        </p:nvPicPr>
        <p:blipFill>
          <a:blip r:embed="rId2"/>
          <a:srcRect l="7640" t="669" r="7805" b="3073"/>
          <a:stretch/>
        </p:blipFill>
        <p:spPr>
          <a:xfrm>
            <a:off x="152280" y="1219320"/>
            <a:ext cx="876312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Rectangle 2"/>
          <p:cNvGrpSpPr/>
          <p:nvPr/>
        </p:nvGrpSpPr>
        <p:grpSpPr>
          <a:xfrm>
            <a:off x="73080" y="122400"/>
            <a:ext cx="9010440" cy="1157040"/>
            <a:chOff x="73080" y="122400"/>
            <a:chExt cx="9010440" cy="1157040"/>
          </a:xfrm>
        </p:grpSpPr>
        <p:pic>
          <p:nvPicPr>
            <p:cNvPr id="1112" name="Rectangle 2" descr=""/>
            <p:cNvPicPr/>
            <p:nvPr/>
          </p:nvPicPr>
          <p:blipFill>
            <a:blip r:embed="rId1"/>
            <a:stretch/>
          </p:blipFill>
          <p:spPr>
            <a:xfrm>
              <a:off x="73080" y="122400"/>
              <a:ext cx="901044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200160" y="404640"/>
              <a:ext cx="876276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</a:rPr>
                <a:t>Negative Feedback Loop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PlaceHolder 1"/>
          <p:cNvSpPr>
            <a:spLocks noGrp="1"/>
          </p:cNvSpPr>
          <p:nvPr>
            <p:ph/>
          </p:nvPr>
        </p:nvSpPr>
        <p:spPr>
          <a:xfrm>
            <a:off x="228600" y="1198800"/>
            <a:ext cx="8610480" cy="57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33"/>
                </a:solidFill>
                <a:latin typeface="Georgia"/>
              </a:rPr>
              <a:t>Regulate amount of hormones in blood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33"/>
                </a:solidFill>
                <a:latin typeface="Georgia"/>
              </a:rPr>
              <a:t>Hormone levels stay within range needed for appropriate responses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33"/>
                </a:solidFill>
                <a:latin typeface="Georgia"/>
              </a:rPr>
              <a:t>Eliminates waste of hormones.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33"/>
                </a:solidFill>
                <a:uFillTx/>
                <a:latin typeface="Georgia"/>
              </a:rPr>
              <a:t>A) long loop –ve feedback:</a:t>
            </a:r>
            <a:endParaRPr b="0" lang="en-US" sz="2800" spc="-1" strike="noStrike">
              <a:solidFill>
                <a:srgbClr val="003333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3333"/>
                </a:solidFill>
                <a:uFillTx/>
                <a:latin typeface="Georgia"/>
              </a:rPr>
              <a:t>1) Direct -ve feedback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33"/>
                </a:solidFill>
                <a:latin typeface="Georgia"/>
              </a:rPr>
              <a:t>Anterior pituitary hormones </a:t>
            </a:r>
            <a:r>
              <a:rPr b="0" lang="en-US" sz="2600" spc="-1" strike="noStrike">
                <a:solidFill>
                  <a:srgbClr val="003333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3333"/>
                </a:solidFill>
                <a:latin typeface="Georgia"/>
              </a:rPr>
              <a:t> stimulate target gland </a:t>
            </a:r>
            <a:r>
              <a:rPr b="1" lang="en-US" sz="2600" spc="-1" strike="noStrike">
                <a:solidFill>
                  <a:srgbClr val="003333"/>
                </a:solidFill>
                <a:latin typeface="Georgia"/>
              </a:rPr>
              <a:t>(</a:t>
            </a:r>
            <a:r>
              <a:rPr b="1" lang="en-US" sz="2600" spc="-1" strike="noStrike">
                <a:solidFill>
                  <a:srgbClr val="003333"/>
                </a:solidFill>
                <a:latin typeface="Wingdings"/>
                <a:ea typeface="Wingdings"/>
              </a:rPr>
              <a:t></a:t>
            </a:r>
            <a:r>
              <a:rPr b="1" lang="en-US" sz="2600" spc="-1" strike="noStrike">
                <a:solidFill>
                  <a:srgbClr val="003333"/>
                </a:solidFill>
                <a:latin typeface="Georgia"/>
              </a:rPr>
              <a:t> TSH </a:t>
            </a:r>
            <a:r>
              <a:rPr b="1" lang="en-US" sz="2600" spc="-1" strike="noStrike">
                <a:solidFill>
                  <a:srgbClr val="003333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3333"/>
                </a:solidFill>
                <a:latin typeface="Georgia"/>
              </a:rPr>
              <a:t> </a:t>
            </a:r>
            <a:r>
              <a:rPr b="1" lang="en-US" sz="2600" spc="-1" strike="noStrike">
                <a:solidFill>
                  <a:srgbClr val="003333"/>
                </a:solidFill>
                <a:latin typeface="Wingdings"/>
                <a:ea typeface="Wingdings"/>
              </a:rPr>
              <a:t></a:t>
            </a:r>
            <a:r>
              <a:rPr b="1" lang="en-US" sz="2600" spc="-1" strike="noStrike">
                <a:solidFill>
                  <a:srgbClr val="003333"/>
                </a:solidFill>
                <a:latin typeface="Georgia"/>
              </a:rPr>
              <a:t> Thyroxin)</a:t>
            </a:r>
            <a:r>
              <a:rPr b="0" lang="en-US" sz="2600" spc="-1" strike="noStrike">
                <a:solidFill>
                  <a:srgbClr val="003333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33"/>
                </a:solidFill>
                <a:latin typeface="Georgia"/>
              </a:rPr>
              <a:t> </a:t>
            </a:r>
            <a:r>
              <a:rPr b="1" i="1" lang="en-US" sz="2600" spc="-1" strike="noStrike">
                <a:solidFill>
                  <a:srgbClr val="003333"/>
                </a:solidFill>
                <a:latin typeface="Georgia"/>
              </a:rPr>
              <a:t>E.g. ↓ Thyroxin </a:t>
            </a:r>
            <a:r>
              <a:rPr b="1" i="1" lang="en-US" sz="2600" spc="-1" strike="noStrike">
                <a:solidFill>
                  <a:srgbClr val="003333"/>
                </a:solidFill>
                <a:latin typeface="Wingdings"/>
                <a:ea typeface="Wingdings"/>
              </a:rPr>
              <a:t></a:t>
            </a:r>
            <a:r>
              <a:rPr b="1" i="1" lang="en-US" sz="2600" spc="-1" strike="noStrike">
                <a:solidFill>
                  <a:srgbClr val="003333"/>
                </a:solidFill>
                <a:latin typeface="Georgia"/>
              </a:rPr>
              <a:t> ↑ TSH from Ant. pituitary         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  <a:p>
            <a:pPr marL="3430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3333"/>
                </a:solidFill>
                <a:latin typeface="Georgia"/>
              </a:rPr>
              <a:t>              ↑ </a:t>
            </a:r>
            <a:r>
              <a:rPr b="1" i="1" lang="en-US" sz="2600" spc="-1" strike="noStrike">
                <a:solidFill>
                  <a:srgbClr val="003333"/>
                </a:solidFill>
                <a:latin typeface="Georgia"/>
              </a:rPr>
              <a:t>Thyroxin </a:t>
            </a:r>
            <a:r>
              <a:rPr b="1" i="1" lang="en-US" sz="2600" spc="-1" strike="noStrike">
                <a:solidFill>
                  <a:srgbClr val="003333"/>
                </a:solidFill>
                <a:latin typeface="Wingdings"/>
                <a:ea typeface="Wingdings"/>
              </a:rPr>
              <a:t></a:t>
            </a:r>
            <a:r>
              <a:rPr b="1" i="1" lang="en-US" sz="2600" spc="-1" strike="noStrike">
                <a:solidFill>
                  <a:srgbClr val="003333"/>
                </a:solidFill>
                <a:latin typeface="Georgia"/>
              </a:rPr>
              <a:t> ↓ TSH.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  <a:p>
            <a:pPr marL="343080" indent="0" algn="just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"/>
          <p:cNvSpPr txBox="1"/>
          <p:nvPr/>
        </p:nvSpPr>
        <p:spPr>
          <a:xfrm>
            <a:off x="304920" y="438480"/>
            <a:ext cx="8534160" cy="59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33"/>
                </a:solidFill>
                <a:uFillTx/>
                <a:latin typeface="Georgia"/>
              </a:rPr>
              <a:t>2) Indirect -ve feedback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Georgia"/>
              </a:rPr>
              <a:t>When hypothalamus is indirectly involved in regulation of hormone secretion from target gland via releasing or inhibitory factors   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{TRF </a:t>
            </a:r>
            <a:r>
              <a:rPr b="1" i="1" lang="en-US" sz="2400" spc="-1" strike="noStrike">
                <a:solidFill>
                  <a:srgbClr val="003333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3333"/>
                </a:solidFill>
                <a:latin typeface="Wingdings"/>
                <a:ea typeface="Wingdings"/>
              </a:rPr>
              <a:t>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  TSH </a:t>
            </a:r>
            <a:r>
              <a:rPr b="1" i="1" lang="en-US" sz="2400" spc="-1" strike="noStrike">
                <a:solidFill>
                  <a:srgbClr val="003333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3333"/>
                </a:solidFill>
                <a:latin typeface="Wingdings"/>
                <a:ea typeface="Wingdings"/>
              </a:rPr>
              <a:t>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  Thyroxin}.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    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E.g. ↑ Thyroxin </a:t>
            </a:r>
            <a:r>
              <a:rPr b="1" i="1" lang="en-US" sz="2400" spc="-1" strike="noStrike">
                <a:solidFill>
                  <a:srgbClr val="003333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 ↓ TRF.            ↓ Thyroxin </a:t>
            </a:r>
            <a:r>
              <a:rPr b="1" i="1" lang="en-US" sz="2400" spc="-1" strike="noStrike">
                <a:solidFill>
                  <a:srgbClr val="003333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 ↑ TRF.             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33"/>
                </a:solidFill>
                <a:uFillTx/>
                <a:latin typeface="Georgia"/>
              </a:rPr>
              <a:t>B) Short loop -ve Feedback:</a:t>
            </a:r>
            <a:r>
              <a:rPr b="1" lang="en-US" sz="2400" spc="-1" strike="noStrike">
                <a:solidFill>
                  <a:srgbClr val="003333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33"/>
                </a:solidFill>
                <a:latin typeface="Georgia"/>
              </a:rPr>
              <a:t>Some anterior pituitary hormones e.g. Somatotropin (= GH)</a:t>
            </a:r>
            <a:r>
              <a:rPr b="0" i="1" lang="en-US" sz="2400" spc="-1" strike="noStrike">
                <a:solidFill>
                  <a:srgbClr val="003333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3333"/>
                </a:solidFill>
                <a:latin typeface="Georgia"/>
              </a:rPr>
              <a:t>can regulate its own release by a short loop -ve feedback on the secretion of its hypothalamic releasing or inhibitory factors.</a:t>
            </a:r>
            <a:r>
              <a:rPr b="1" lang="en-US" sz="2400" spc="-1" strike="noStrike">
                <a:solidFill>
                  <a:srgbClr val="003333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E.g.</a:t>
            </a:r>
            <a:r>
              <a:rPr b="0" i="1" lang="en-US" sz="2400" spc="-1" strike="noStrike">
                <a:solidFill>
                  <a:srgbClr val="003333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3333"/>
                </a:solidFill>
                <a:latin typeface="Georgia"/>
              </a:rPr>
              <a:t>Somatotropin and Somatotropin RF or Somatostatin.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 algn="just">
              <a:lnSpc>
                <a:spcPct val="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99800" y="436680"/>
            <a:ext cx="8762760" cy="53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gative Feedback Loops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7" name="Picture 3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8229600" cy="53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1" descr="18t2a"/>
          <p:cNvPicPr/>
          <p:nvPr/>
        </p:nvPicPr>
        <p:blipFill>
          <a:blip r:embed="rId1"/>
          <a:srcRect l="0" t="0" r="0" b="247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Picture1" descr="18t2b"/>
          <p:cNvPicPr/>
          <p:nvPr/>
        </p:nvPicPr>
        <p:blipFill>
          <a:blip r:embed="rId1"/>
          <a:srcRect l="0" t="8575" r="15850" b="86738"/>
          <a:stretch/>
        </p:blipFill>
        <p:spPr>
          <a:xfrm>
            <a:off x="304920" y="762120"/>
            <a:ext cx="8534160" cy="45720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1" descr="18t2a"/>
          <p:cNvPicPr/>
          <p:nvPr/>
        </p:nvPicPr>
        <p:blipFill>
          <a:blip r:embed="rId2"/>
          <a:srcRect l="47129" t="89047" r="0" b="413"/>
          <a:stretch/>
        </p:blipFill>
        <p:spPr>
          <a:xfrm>
            <a:off x="4191120" y="3657600"/>
            <a:ext cx="4343400" cy="12193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1" descr="18t2b"/>
          <p:cNvPicPr/>
          <p:nvPr/>
        </p:nvPicPr>
        <p:blipFill>
          <a:blip r:embed="rId3"/>
          <a:srcRect l="18328" t="13476" r="13601" b="84082"/>
          <a:stretch/>
        </p:blipFill>
        <p:spPr>
          <a:xfrm>
            <a:off x="1905120" y="3048120"/>
            <a:ext cx="6629400" cy="3110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1" descr="18t2b"/>
          <p:cNvPicPr/>
          <p:nvPr/>
        </p:nvPicPr>
        <p:blipFill>
          <a:blip r:embed="rId4"/>
          <a:srcRect l="12959" t="19598" r="13601" b="75518"/>
          <a:stretch/>
        </p:blipFill>
        <p:spPr>
          <a:xfrm>
            <a:off x="1752480" y="5334120"/>
            <a:ext cx="6858000" cy="68580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1" descr="18t2b"/>
          <p:cNvPicPr/>
          <p:nvPr/>
        </p:nvPicPr>
        <p:blipFill>
          <a:blip r:embed="rId5"/>
          <a:srcRect l="40804" t="15924" r="13601" b="80407"/>
          <a:stretch/>
        </p:blipFill>
        <p:spPr>
          <a:xfrm>
            <a:off x="4191120" y="3352680"/>
            <a:ext cx="4343400" cy="3812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1" descr="18t2a"/>
          <p:cNvPicPr/>
          <p:nvPr/>
        </p:nvPicPr>
        <p:blipFill>
          <a:blip r:embed="rId6"/>
          <a:srcRect l="21930" t="75264" r="0" b="10958"/>
          <a:stretch/>
        </p:blipFill>
        <p:spPr>
          <a:xfrm>
            <a:off x="1905120" y="1371600"/>
            <a:ext cx="6553080" cy="15238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1" descr="18t2b"/>
          <p:cNvPicPr/>
          <p:nvPr/>
        </p:nvPicPr>
        <p:blipFill>
          <a:blip r:embed="rId7"/>
          <a:srcRect l="0" t="13476" r="84294" b="84030"/>
          <a:stretch/>
        </p:blipFill>
        <p:spPr>
          <a:xfrm>
            <a:off x="380880" y="1295280"/>
            <a:ext cx="13716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2" descr="https://scontent-ams3-1.xx.fbcdn.net/hphotos-xft1/v/t1.0-9/12189059_1768636816697771_6337310308223483586_n.jpg?oh=a81026d5bd1ce3566ef9d813d5530942&amp;oe=56ADE0FA"/>
          <p:cNvPicPr/>
          <p:nvPr/>
        </p:nvPicPr>
        <p:blipFill>
          <a:blip r:embed="rId1"/>
          <a:stretch/>
        </p:blipFill>
        <p:spPr>
          <a:xfrm>
            <a:off x="762120" y="228600"/>
            <a:ext cx="7315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1"/>
          <p:cNvSpPr/>
          <p:nvPr/>
        </p:nvSpPr>
        <p:spPr>
          <a:xfrm>
            <a:off x="457200" y="5562720"/>
            <a:ext cx="83818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Arial"/>
              </a:rPr>
              <a:t>طريق الخير صعوبته في سلوكه، وطريق الشر صعوبته في عاقبته، فاللهم أعنّا على الخير، وعافنا من الش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‫#‏صالح_المغامس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4" descr="https://fbcdn-sphotos-f-a.akamaihd.net/hphotos-ak-xtf1/v/t1.0-9/12046676_868370936610669_1267467930689380016_n.jpg?oh=94e89ae020e427f5a8f8332d0d7f647c&amp;oe=56B95C56&amp;__gda__=1454128397_c40a64c7a6d975d186eebe03eb6f303d"/>
          <p:cNvPicPr/>
          <p:nvPr/>
        </p:nvPicPr>
        <p:blipFill>
          <a:blip r:embed="rId1"/>
          <a:srcRect l="0" t="8839" r="0" b="11996"/>
          <a:stretch/>
        </p:blipFill>
        <p:spPr>
          <a:xfrm>
            <a:off x="457200" y="228600"/>
            <a:ext cx="8381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Arial"/>
              </a:rPr>
              <a:t>II. Anterior pituitary (=Adenohypophysi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80520" y="99036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ells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hromophob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50% of cells) = precursor cel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cidophils (alpha cells)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40% of cells) &amp; secrete: Growth hormon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GH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&amp; Prolactin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PRL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Basophils (Beta cells)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10% of cells) &amp; secret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yriod stimulating hormon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TSH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r Thyrotropi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drenocorticotrophic H.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ACTH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r Corticotropi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llicle stimulating hormon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FSH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uteinizing hormon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(LH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Rectangle 2"/>
          <p:cNvGrpSpPr/>
          <p:nvPr/>
        </p:nvGrpSpPr>
        <p:grpSpPr>
          <a:xfrm>
            <a:off x="785880" y="6480"/>
            <a:ext cx="7797600" cy="1193760"/>
            <a:chOff x="785880" y="6480"/>
            <a:chExt cx="7797600" cy="1193760"/>
          </a:xfrm>
        </p:grpSpPr>
        <p:pic>
          <p:nvPicPr>
            <p:cNvPr id="1064" name="Rectangle 2" descr=""/>
            <p:cNvPicPr/>
            <p:nvPr/>
          </p:nvPicPr>
          <p:blipFill>
            <a:blip r:embed="rId1"/>
            <a:stretch/>
          </p:blipFill>
          <p:spPr>
            <a:xfrm>
              <a:off x="785880" y="6480"/>
              <a:ext cx="779760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5" name=""/>
            <p:cNvSpPr/>
            <p:nvPr/>
          </p:nvSpPr>
          <p:spPr>
            <a:xfrm>
              <a:off x="914400" y="228600"/>
              <a:ext cx="75438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Anterior Pituitary hormon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PlaceHolder 1"/>
          <p:cNvSpPr>
            <a:spLocks noGrp="1"/>
          </p:cNvSpPr>
          <p:nvPr>
            <p:ph/>
          </p:nvPr>
        </p:nvSpPr>
        <p:spPr>
          <a:xfrm>
            <a:off x="228240" y="1218960"/>
            <a:ext cx="7010280" cy="481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5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wth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G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lactin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PRL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yroi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imulating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TS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llicl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imulating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FS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teinizing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L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457200" indent="-457200">
              <a:lnSpc>
                <a:spcPct val="15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reno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tico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pic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ACT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457200" indent="0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</p:txBody>
      </p:sp>
      <p:pic>
        <p:nvPicPr>
          <p:cNvPr id="1067" name="Picture 7" descr="https://bohone09.wikispaces.com/file/view/Pituitary_gland_ant_%26_post.gif/84150015/433x284/Pituitary_gland_ant_%26_post.gif"/>
          <p:cNvPicPr/>
          <p:nvPr/>
        </p:nvPicPr>
        <p:blipFill>
          <a:blip r:embed="rId2"/>
          <a:srcRect l="0" t="8001" r="0" b="0"/>
          <a:stretch/>
        </p:blipFill>
        <p:spPr>
          <a:xfrm>
            <a:off x="6019920" y="1143000"/>
            <a:ext cx="29718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Picture 2" descr="http://www.medicalook.com/systems_images/Pituitary_Hormones_large.jpg"/>
          <p:cNvPicPr/>
          <p:nvPr/>
        </p:nvPicPr>
        <p:blipFill>
          <a:blip r:embed="rId1"/>
          <a:srcRect l="0" t="2298" r="0" b="0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295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ypothalamo - Hypophyseal portal system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457200" y="16761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s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nection between hypothalamus &amp; anterior pitu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alamus secretes polypeptide hormone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= hypothalamic releasing or inhibiting factor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bsorbed into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othalamic-hypophyseal portal capilla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carried to anterior pitu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2" descr="understand the hypothalamic-hypophyseal portal system."/>
          <p:cNvPicPr/>
          <p:nvPr/>
        </p:nvPicPr>
        <p:blipFill>
          <a:blip r:embed="rId1"/>
          <a:srcRect l="4655" t="0" r="13888" b="3615"/>
          <a:stretch/>
        </p:blipFill>
        <p:spPr>
          <a:xfrm>
            <a:off x="304920" y="228600"/>
            <a:ext cx="8458200" cy="6248520"/>
          </a:xfrm>
          <a:prstGeom prst="rect">
            <a:avLst/>
          </a:prstGeom>
          <a:ln w="0">
            <a:noFill/>
          </a:ln>
        </p:spPr>
      </p:pic>
      <p:sp>
        <p:nvSpPr>
          <p:cNvPr id="1072" name="Text Box 3"/>
          <p:cNvSpPr/>
          <p:nvPr/>
        </p:nvSpPr>
        <p:spPr>
          <a:xfrm>
            <a:off x="457200" y="480060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ypothalamic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- hypophys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ort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3" name="Rectangle 2"/>
          <p:cNvGrpSpPr/>
          <p:nvPr/>
        </p:nvGrpSpPr>
        <p:grpSpPr>
          <a:xfrm>
            <a:off x="23760" y="-36360"/>
            <a:ext cx="9016920" cy="1236600"/>
            <a:chOff x="23760" y="-36360"/>
            <a:chExt cx="9016920" cy="1236600"/>
          </a:xfrm>
        </p:grpSpPr>
        <p:pic>
          <p:nvPicPr>
            <p:cNvPr id="1074" name="Rectangle 2" descr=""/>
            <p:cNvPicPr/>
            <p:nvPr/>
          </p:nvPicPr>
          <p:blipFill>
            <a:blip r:embed="rId1"/>
            <a:stretch/>
          </p:blipFill>
          <p:spPr>
            <a:xfrm>
              <a:off x="23760" y="-36360"/>
              <a:ext cx="901692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52280" y="152280"/>
              <a:ext cx="87631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Arial"/>
                  <a:ea typeface="Arial"/>
                </a:rPr>
                <a:t>Vascular Link Between the Hypothalamus and Anterior Pituita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6" name="Picture 3" descr="18f08"/>
          <p:cNvPicPr/>
          <p:nvPr/>
        </p:nvPicPr>
        <p:blipFill>
          <a:blip r:embed="rId2"/>
          <a:stretch/>
        </p:blipFill>
        <p:spPr>
          <a:xfrm>
            <a:off x="115920" y="1066680"/>
            <a:ext cx="8915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4" descr="18t4"/>
          <p:cNvPicPr/>
          <p:nvPr/>
        </p:nvPicPr>
        <p:blipFill>
          <a:blip r:embed="rId1"/>
          <a:srcRect l="0" t="2702" r="0" b="2778"/>
          <a:stretch/>
        </p:blipFill>
        <p:spPr>
          <a:xfrm>
            <a:off x="1523880" y="457200"/>
            <a:ext cx="6248520" cy="594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20:15:10Z</dcterms:created>
  <dc:creator>User</dc:creator>
  <dc:description/>
  <dc:language>en-US</dc:language>
  <cp:lastModifiedBy>Dell</cp:lastModifiedBy>
  <dcterms:modified xsi:type="dcterms:W3CDTF">2015-12-14T07:33:40Z</dcterms:modified>
  <cp:revision>127</cp:revision>
  <dc:subject/>
  <dc:title>Slide 1</dc:title>
</cp:coreProperties>
</file>